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2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37.jpeg" ContentType="image/jpeg"/>
  <Override PartName="/ppt/media/image23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12.jpeg" ContentType="image/jpeg"/>
  <Override PartName="/ppt/media/camera.wav" ContentType="audio/x-wav"/>
  <Override PartName="/ppt/media/image2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0EC0-E350-495E-B217-9B64FCAA8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E6C04-EF2E-44B8-A528-CB2F9CE32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FD9B-16B3-4BD4-BBAE-5F6E8D030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495-ABB0-400F-B1D5-9BE53393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8010-18DB-4F98-AF35-A6F6EDE41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7E1C2-76BE-4F06-8612-2C144CFA9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F69-8A01-4B90-8973-E2014F9B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DFF82-0B23-4077-A600-CBE346170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DFF78-12A8-42DA-9954-4CA3EBC1E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DA87-12E6-4C39-AC6D-5AE00D2BF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523A-2CF3-4AEB-95C8-380DF1FC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4BB4-6EE4-4754-AF08-42BB7F077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8249-B1CA-47D7-A626-D4346A3CC222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11280" y="201600"/>
            <a:ext cx="839772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46960" y="2349360"/>
            <a:ext cx="577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Brush Script MT"/>
              </a:rPr>
              <a:t>Projektarbeit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459240" y="3768840"/>
            <a:ext cx="28004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0000"/>
                </a:solidFill>
                <a:latin typeface="Freestyle Script"/>
              </a:rPr>
              <a:t>TGTM12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046600" y="4724280"/>
            <a:ext cx="5755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200" spc="-1" strike="noStrike">
                <a:solidFill>
                  <a:srgbClr val="000000"/>
                </a:solidFill>
                <a:latin typeface="Brush Script MT"/>
              </a:rPr>
              <a:t>Schuljahr 2007/08</a:t>
            </a:r>
            <a:endParaRPr b="0" lang="en-US" sz="5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8000">
    <p:wipe dir="l"/>
    <p:sndAc>
      <p:stSnd>
        <p:snd r:embed="rId1" name="camera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2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90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16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16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108,54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10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16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81880" cy="27129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2166840" y="3573360"/>
            <a:ext cx="6581880" cy="27133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87280" y="765000"/>
            <a:ext cx="7490160" cy="529776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2" name="camera.wav"/>
      </p:stSnd>
    </p:sndAc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836640"/>
            <a:ext cx="3362400" cy="47530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3492360" y="2435400"/>
            <a:ext cx="5112000" cy="376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 spd="slow" advTm="13000">
    <p:wipe dir="l"/>
    <p:sndAc>
      <p:stSnd>
        <p:snd r:embed="rId3" name="camera.wav"/>
      </p:stSnd>
    </p:sndAc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403280" y="620640"/>
            <a:ext cx="5689800" cy="355752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38760" y="1989000"/>
            <a:ext cx="3408480" cy="410400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l"/>
    <p:sndAc>
      <p:stSnd>
        <p:snd r:embed="rId3" name="camera.wav"/>
      </p:stSnd>
    </p:sndAc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500"/>
                            </p:stCondLst>
                            <p:childTnLst>
                              <p:par>
                                <p:cTn id="43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403280" y="765000"/>
            <a:ext cx="5329440" cy="34164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3419640" y="2462040"/>
            <a:ext cx="5045040" cy="370224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l"/>
    <p:sndAc>
      <p:stSnd>
        <p:snd r:embed="rId3" name="camera.wav"/>
      </p:stSnd>
    </p:sndAc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500"/>
                            </p:stCondLst>
                            <p:childTnLst>
                              <p:par>
                                <p:cTn id="55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5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5580000" y="620640"/>
            <a:ext cx="2987640" cy="4753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1403280" y="2276640"/>
            <a:ext cx="5259600" cy="38289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l"/>
    <p:sndAc>
      <p:stSnd>
        <p:snd r:embed="rId3" name="camera.wav"/>
      </p:stSnd>
    </p:sndAc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8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500"/>
                            </p:stCondLst>
                            <p:childTnLst>
                              <p:par>
                                <p:cTn id="71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332000" y="549360"/>
            <a:ext cx="3247920" cy="51116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187960" cy="37767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l"/>
    <p:sndAc>
      <p:stSnd>
        <p:snd r:embed="rId3" name="camera.wav"/>
      </p:stSnd>
    </p:sndAc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121440" cy="4329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59280" y="2133720"/>
            <a:ext cx="5543280" cy="4111560"/>
          </a:xfrm>
          <a:prstGeom prst="rect">
            <a:avLst/>
          </a:prstGeom>
          <a:ln w="0">
            <a:noFill/>
          </a:ln>
        </p:spPr>
      </p:pic>
    </p:spTree>
  </p:cSld>
  <p:transition spd="slow" advTm="13000">
    <p:wipe dir="l"/>
    <p:sndAc>
      <p:stSnd>
        <p:snd r:embed="rId3" name="camera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500"/>
                            </p:stCondLst>
                            <p:childTnLst>
                              <p:par>
                                <p:cTn id="102" nodeType="afterEffect" fill="hold" presetClass="entr" presetID="2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141880" y="1798560"/>
            <a:ext cx="2886120" cy="4078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2880000" cy="40705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l"/>
    <p:sndAc>
      <p:stSnd>
        <p:snd r:embed="rId3" name="camera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5148360" y="1844640"/>
            <a:ext cx="2879640" cy="40705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2880000" cy="40705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l"/>
    <p:sndAc>
      <p:stSnd>
        <p:snd r:embed="rId3" name="camera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187280" y="725400"/>
            <a:ext cx="7488360" cy="52959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wipe dir="l"/>
    <p:sndAc>
      <p:stSnd>
        <p:snd r:embed="rId2" name="camera.wav"/>
      </p:stSnd>
    </p:sndAc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076720" y="1844640"/>
            <a:ext cx="2880000" cy="40705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2880000" cy="40705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l"/>
    <p:sndAc>
      <p:stSnd>
        <p:snd r:embed="rId3" name="camera.wav"/>
      </p:stSnd>
    </p:sndAc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221440" y="1844640"/>
            <a:ext cx="2879640" cy="4070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47640" y="765000"/>
            <a:ext cx="2880000" cy="40705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l"/>
    <p:sndAc>
      <p:stSnd>
        <p:snd r:embed="rId3" name="camera.wav"/>
      </p:stSnd>
    </p:sndAc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219640" y="1844640"/>
            <a:ext cx="2879640" cy="4070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47640" y="798480"/>
            <a:ext cx="2880000" cy="40705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l"/>
    <p:sndAc>
      <p:stSnd>
        <p:snd r:embed="rId3" name="camera.wav"/>
      </p:stSnd>
    </p:sndAc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5221440" y="1844640"/>
            <a:ext cx="2879640" cy="40705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547640" y="727200"/>
            <a:ext cx="2880000" cy="407016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l"/>
    <p:sndAc>
      <p:stSnd>
        <p:snd r:embed="rId3" name="camera.wav"/>
      </p:stSnd>
    </p:sndAc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3132000" y="1158840"/>
            <a:ext cx="3287880" cy="4646520"/>
          </a:xfrm>
          <a:prstGeom prst="rect">
            <a:avLst/>
          </a:prstGeom>
          <a:ln w="0">
            <a:noFill/>
          </a:ln>
        </p:spPr>
      </p:pic>
    </p:spTree>
  </p:cSld>
  <p:transition spd="slow" advTm="11000">
    <p:wipe dir="l"/>
    <p:sndAc>
      <p:stSnd>
        <p:snd r:embed="rId2" name="camera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89800" cy="2698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2325600" y="3573360"/>
            <a:ext cx="6567480" cy="27036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166840" y="3573360"/>
            <a:ext cx="6581880" cy="27133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586560" cy="2709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2195640" y="3579840"/>
            <a:ext cx="6589440" cy="27288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586560" cy="2709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89800" cy="2700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2162160" y="3616200"/>
            <a:ext cx="6586560" cy="269244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58920" y="3608280"/>
            <a:ext cx="6589800" cy="270036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1258920" y="549360"/>
            <a:ext cx="6586560" cy="27097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86560" cy="26924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2158920" y="3579840"/>
            <a:ext cx="6589800" cy="272880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549360"/>
            <a:ext cx="6589800" cy="2728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195640" y="3573360"/>
            <a:ext cx="6581520" cy="2713320"/>
          </a:xfrm>
          <a:prstGeom prst="rect">
            <a:avLst/>
          </a:prstGeom>
          <a:ln w="0">
            <a:noFill/>
          </a:ln>
        </p:spPr>
      </p:pic>
    </p:spTree>
  </p:cSld>
  <p:transition spd="slow" advTm="9000">
    <p:wipe dir="l"/>
    <p:sndAc>
      <p:stSnd>
        <p:snd r:embed="rId3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1T10:13:17Z</dcterms:created>
  <dc:creator>CBS</dc:creator>
  <dc:description/>
  <dc:language>en-US</dc:language>
  <cp:lastModifiedBy>mvv4907</cp:lastModifiedBy>
  <dcterms:modified xsi:type="dcterms:W3CDTF">2008-11-21T15:59:17Z</dcterms:modified>
  <cp:revision>26</cp:revision>
  <dc:subject/>
  <dc:title>Projektarbeit</dc:title>
</cp:coreProperties>
</file>